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93F9-1DBA-4993-8033-661F46ECFF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219F-4512-4736-9884-01F808FBEE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445-9EB7-4FA8-86F3-7C4C2C93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512-5D51-48C4-9070-E0008D38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F65-D03C-4FE6-903A-8022EED6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CFF-38EA-4983-B2C3-03BA7073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432-5EB1-462D-B910-4A8FF9D3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648-81A9-4394-9A32-E2FA6FA5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071-A6FA-436F-9932-D026F7A8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658-A091-41DA-B5BB-13DF1E7E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05E-8382-410E-9DCF-9F7C7B2E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0EC-9711-4EB7-8E17-45CA088E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1CA-C8C8-455C-A75D-27EFB6A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3D0-760C-4A0E-A9D0-F558A873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2CC3-6210-4460-A183-E8E8BBB433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E0A6-5AEB-4EC8-B3C3-CC914AFE4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ноября 202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0D5A-8857-4401-8A51-F84FBE6A8F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ноября2021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2840" y="914400"/>
          <a:ext cx="8778600" cy="628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914400"/>
                    <a:ext cx="877860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1-10-27T09:54:29Z</dcterms:modified>
  <cp:revision>132</cp:revision>
  <dc:subject/>
  <dc:title>Презентация PowerPoint</dc:title>
</cp:coreProperties>
</file>